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DA83-2071-4C4E-8629-778D0240F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3D3F-3367-4079-804D-6E0A853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37C3-3654-4977-A663-C0C98E65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D4C3A-B40F-46B7-98F2-B0EBDEC0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B513-B2F1-4757-928A-78E7CF16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2E97E-DC82-4EE3-854C-0A44CBB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2867-A372-4AAB-89A9-69CC4C55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D1B82-E87D-4BB1-AB42-02341DE4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436A-865B-4060-B738-9D188BDA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E557-6140-4DF5-96B2-C536B6C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A758-4A79-4134-B374-E24629FC8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0059E-7E64-4AFB-9A33-4389922AE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D75C-DB4D-4463-9384-285718C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AC9D7-2542-4E00-ACBC-502913F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EBD50-8F73-4ED4-AC9B-925AD0A7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0A85A-D425-4197-974F-D0D25C6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B86CB-74BE-405B-85EF-EA424F18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D3B43-631C-4596-B246-3C218656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0E3FF-DE38-4E9A-8DF4-636FB2EB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5B966-E013-48AB-96D2-634EDF4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F8868-F4CD-4B7C-AC86-BC912646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3C4E8-6E20-45AD-AA46-C19095B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6D0F6-4B20-4A11-A2E4-B47A8A3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635C-D600-4983-8D54-5FAD77E9B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E70BC-65B9-460F-A1F7-F6A372708C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C6C6C1-172C-4A70-8B20-95971B878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9D8CC5-235D-46ED-95A1-3EB6A789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1B19C1-1D6D-4063-A08A-83BE2E95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430D6F-3318-4879-AFBA-FCA9C98A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C2BF9-BA73-4F09-8015-3E4AEB78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4B726-A49A-463B-A3EA-406F5212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969A97-00C6-42EA-A8F7-6CA5C045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4BBD13-D164-453B-A1EB-19C6C5DE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D2B221-9140-414F-B913-BA3505E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DBB1B-BC5A-424D-BC56-0BC1587F8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4C5B1-1B79-495B-925A-4AF2C8A6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650236-B85C-4158-BCDC-F82782A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20726-782A-401F-B35C-141D1158B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4CAFA-B419-43A6-AC98-950553E10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21EC7-152D-48BB-8260-9350EF1B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479B3-3795-4A23-AC83-036880D5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23088-1915-46BF-ACDF-609D109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80FC-EF47-47D7-9882-1E01BC52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BB5E-8724-47A0-8135-7CDBCDA8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F5FE-677B-4645-B33E-1CA5E048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58E3-8342-4162-BAAC-F1AE6AF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375E-9411-4CBB-A18E-DD426F52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49E2-8DA3-4B01-829D-792801A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B61C8-1121-489F-9F7F-FBCAC0F7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1B4C2-FD69-4325-8A8C-D00DBF0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6FECB-BC5E-4305-BEB4-CABCDA18B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043D3-5B52-41A6-83A4-C6AE92A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CCF01-5951-48C6-89B1-136F10D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D8288-8BF4-4AB9-8B8F-0AC27B70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2FD6C-0066-4FC4-80BF-6836ABF4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B52B4-EB88-4DBA-A2E4-0DA429E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6B6C-1607-483F-AB69-905B66C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20B25-1DC3-4629-9840-D977BD41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CBE9F-1A7E-4172-B86B-31597004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901BA-72DA-41B2-ACD3-AC812960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B103-D3E2-4FC3-8571-3E305F1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B9748-C409-4E4B-93C3-F454182A4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EBE-99D9-477D-B6C8-9D6532BA3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C826-48CE-48C5-A59B-123993F8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2C43-9AD7-4416-8D29-0286D65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F6E-B26B-49DA-952D-F2CEE7BE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284C-6DC3-44AD-93FA-E767F8D2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B3D5-5565-4F56-9FE1-4CDB6BD0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AFD6-9C49-4DA0-91A0-77FC188A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E10F-EBF5-4E22-BAE5-FE914CE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145-D09D-4520-A597-6117E5D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B1BC-66C6-41E2-8633-14C5BB32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F02D-9926-4440-B615-608A294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0253-5AA4-47C6-BE4B-6BB690A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5DC-5AF9-4BB2-9A85-0185B7AC9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1ABB6-2BC4-471D-BE12-DFA856353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1D917-94D0-4DE3-89E3-4EA82EF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165FC-03D4-4E7C-B5DC-22F1BB6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1657-664D-415E-804F-E63D6D7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7B066-7D2E-4446-B956-8270BA58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3C168-F9C2-4F9E-919B-CC85F2A7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BAFFB-AF8C-48CC-B732-10F213AA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40028-D726-4F9B-9293-51D6733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8BE3F-B610-43C9-8CFF-C9D2A5B7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675B3-B16D-4D23-955B-C464BDD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94C9A-8EFA-4B58-AC79-8167CD12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D044B-2D3D-4414-B4D0-8031789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12354-DEA1-40FA-9520-E077C24518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37EDB-D148-463D-960D-F43D2AB95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5714-C2FE-4195-81A9-8982370B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3B475-A576-4E2C-AC69-AA45F01B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2C86C-2DC1-4C28-836E-37A6D10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2171B-5CD4-43B7-833E-EB8AA77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984B5-1C3E-42FF-AD7F-4FD38239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27E87-6FCC-4489-9120-896D6F1F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F46CE-488C-4609-B46D-AED702EB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AA7D4-C1D8-4463-9890-8AF14C0F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B4F3E-2B03-4505-A98A-7B794EF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EBFC7-ED07-475E-97E7-DBD1883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E8D88-C52B-4CB8-A4A6-60194EF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B0EC-2B9B-4DE0-A0FC-901D9923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9719F-7320-49E0-9272-2B20324C3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16E6-DD10-4587-A285-3ACA7F9A7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A8C4-DE63-43ED-B447-9FEE79A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9B99-1556-4601-8044-40CF2729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B1A4-5658-452F-BDD5-ACF68E1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3CA3-B9FC-4122-BEB4-E9066940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9B29-EF82-4C6F-9178-96B76F91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FC28-EDA1-4A68-B55F-2343244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DC73-A1BD-4B59-8C3F-4B4A0C7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BA01-730D-43D8-B347-56225ED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B653-F71C-4CA4-A645-0F00086F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DB9A-1E83-475F-AEB7-B7E6D83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E91A-EF22-4EA9-AA36-D91A713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703B-27AF-4E87-A597-A53BA79A2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80D21-BBCA-4AC9-9AEA-1A7D14BAA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F7E0C-FEA4-45DF-8BFE-ADEE17C1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1F4F5-6E32-4836-B302-F98A1AF7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62859-6C54-4B51-B93A-E232E5C0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486F2-991E-4D74-884A-D4123A23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FE40A-A855-4BFE-BB63-574CA3B3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9758C-C19F-4140-AC09-DDEA6B3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0275-3879-443F-B859-45141C2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2F076-96F9-4DC5-9A6A-7B98155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0C443-0F21-4EA6-8F46-D171794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17B01-4E0F-44A0-95A4-A881B725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31FDA-9F46-4C38-8A6F-FBA9A77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28305-0351-40B8-AB15-0044D90C8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0898D-6C5D-49FB-84B7-D7BE125B3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4D197-3849-41C4-B04C-5437E0BC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6BD6D-1AB1-421A-96F3-E86625A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0EEAA-7C47-4FE8-BAB8-7DDB82D7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379F4-EEFB-40E8-A980-DF78619A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E1F7-F10A-435A-9208-4FB953A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DE5C4-55C9-45E4-BB93-C862AD87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E37A88-48FB-416F-B610-9529DE7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5B5C4-F9FC-419E-B354-B7B574EE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13E8A-4273-4E79-AD91-D054322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2BABE-9C18-4143-BC45-F415CEB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9465D-8DE7-4567-BF64-2990291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60AE2-14AF-4DAA-9863-14A0E2926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0472-76B3-4E70-8DAF-5E99573A9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FBF6-3D88-41DB-9B88-1D698DDE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5E32-A4B2-4A4A-9AFF-088CA85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7FD-B6CA-4EB1-BC3C-15A495E1B424}" type="slidenum">
              <a:rPr b="1" lang="cs-CZ" sz="20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498F-D612-4E3A-8044-129A2E01A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7B7-94DD-4599-9047-31E9B279C0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688-E57C-40AF-B25D-2DF291E6D6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D58A-C7C2-4006-9BFD-6CE23E9116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8261-4BB4-4ADA-B1C0-3B4743B80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4D3-57D0-436F-B3BE-8F8F7B85FC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DD64-E9E9-4FA3-AB8A-EBA6C12DF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EDA1-A53C-4700-B5F2-576026C33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3857-8FDF-4572-89F9-580FB05B16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5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331C-FCEF-4EC9-AE37-CF83C95225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7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739B-71F4-41CB-8443-6BC59FECEC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.wmf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3.png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.wmf"/><Relationship Id="rId6" Type="http://schemas.openxmlformats.org/officeDocument/2006/relationships/image" Target="../media/image5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1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wmf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wmf"/><Relationship Id="rId14" Type="http://schemas.openxmlformats.org/officeDocument/2006/relationships/image" Target="../media/image5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09480" y="3205080"/>
            <a:ext cx="80517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ociální a humanitní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ědy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 České Roadma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řich Krejč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j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@soc.cas.c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520560" y="1279440"/>
            <a:ext cx="7899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Informační den o infrastruktuře výzk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3. září 2009</a:t>
            </a:r>
            <a:r>
              <a:rPr b="0" lang="en-US" sz="2600" spc="-1" strike="noStrike">
                <a:solidFill>
                  <a:srgbClr val="3366cc"/>
                </a:solidFill>
                <a:latin typeface="Arial"/>
              </a:rPr>
              <a:t>, </a:t>
            </a: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MŠM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7400-9955-4371-AB84-E904502E0347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rojekty pro Českou Roadmap (II.)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958320"/>
            <a:ext cx="9144000" cy="58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5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 - s českou úča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SS (surv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Ú AV ČR, 3 vlny z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cování - nyní: SOÚ (dříve INGO, GA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: realizace šetření každé 2 roky + doprovodn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999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lší národní projekty - přehled v pří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eský národní korpus (FF U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dat pro jazykový výzkum, úložiště digitalizovaných textů + spec. software, široké spektrum depozitorů a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spolupráce (TELRI, CL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cování: Výzkumný záměr MŠMT (+ gra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25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tální knihovny, databáze, projekty digitalizace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běr dat - koordinovaná účast v kontinuálních mezinár. šet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C0B-CF2A-4218-9549-EE8AC5BDD267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ředběžné zhodnocení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17520" y="755280"/>
            <a:ext cx="8826480" cy="61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49"/>
              </a:spcBef>
              <a:buSzPct val="1526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apojení do mezinárodních aktivit - významný impul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ojekty formulované „zdola“ - vycházející z potřeb výzkumní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xistující a zavedené technolo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ítě - spolupráce - sdílení zdrojů - rozložení nákladů - efektiv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625"/>
              </a:spcBef>
              <a:buSzPct val="1526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apojení do mezinár. projektů nepokrývá reálné potřeby SH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k koncepce a specializovaný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tříštěnost, nedostatek koordinace, různost institucionálního zázemí, různost zdrojů financo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hybějící infrastruktur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limity dosahování excelence, limity efektivity, limity zapojení do mezinár. projek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fragmentovaná, ale existující infrastruktur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východiska 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o nové projekty a řešení nedostat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2625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0DE7-07C8-4918-B954-8248F95FE718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098360"/>
            <a:ext cx="819936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1500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: www.cordis.lu/esf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SSDA: http://www.cessd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ologický datový archiv: http://archiv.soc.cas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LARIN: http://www.clarin.e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RIAH: http://www.dariah.e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ARE: http://www.share-projec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ARE ČR: http://www.cerge-ei.cz/shar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S (Survey): http://www.europeansocialsurvey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ý národní korpus: http://ucnk.ff.cuni.cz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C654-E569-4636-8DA4-1929D7535280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ématická pracovní skupina SH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rakter a význam 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rastruktury v SH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HV v ESFRI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jekty pro Českou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běžné zhodnoc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7" descr="under construction"/>
          <p:cNvPicPr/>
          <p:nvPr/>
        </p:nvPicPr>
        <p:blipFill>
          <a:blip r:embed="rId7"/>
          <a:srcRect l="12617" t="10533" r="11683" b="12114"/>
          <a:stretch/>
        </p:blipFill>
        <p:spPr>
          <a:xfrm>
            <a:off x="6006960" y="3159000"/>
            <a:ext cx="2057400" cy="18655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6032880" y="5068800"/>
            <a:ext cx="202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AD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PŘÍ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5913-85D1-4F67-95C0-70DAE01C1708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Tématická pracovní skupina SHV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30360"/>
            <a:ext cx="8039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11"/>
              </a:spcBef>
              <a:buSzPct val="139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gr. Jin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ch Krej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PhD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 AV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ciolog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PhDr. Ing. On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 C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PhD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SS M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itolog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. PhDr. Milan Hlav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a, CSc.,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ÚČ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F U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Ing. Daniel 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ch, PhD.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RG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-E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kono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RNDr. Karel Oliva, Dr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Ú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zykov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BD0-DA43-468A-A684-0710CE3FA907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82400" y="343080"/>
            <a:ext cx="83372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Česká Roadmap - metoda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4027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89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gální a koncepční rámec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zkumná organizace pro výzkumné účel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ikátní a nákladná v rámci oboru, široký veřejný přístup, uživatelé, celonárodní dosah, mezinárodní kompon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SFRI, indikativní seznamy projek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tabáze projektů (TC, RIV, info projek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zkum využívaných zdrojů pro výzk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tazníky pro projekty (7.9. první vlna dotazová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4B12-C879-4EB8-A351-98B8D612B9D5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In</a:t>
            </a: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frastruktura SHV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1993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61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ramatický růst využívání dat v SHV 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odukce dat, nové zdroje, rozvoj metod, rozvoj technologií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64"/>
              </a:spcBef>
              <a:buSzPct val="145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frastruktura - propojení dvou aspek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ové zdroj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, sbírky výzkumného materiálu,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ologie, systemizace, nástroj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ěr dat, digitalizace, vzdálený přístup, propojování rozptýlených zdrojů, informační systémy, prostředí pro spolupráci, harmonizace/standardizace a spojování databází, nástroje pro kompa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64"/>
              </a:spcBef>
              <a:buSzPct val="1458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harakter infrastruk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čnost na práci, méně investic do příst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n fixně lokalizovaná pracoviště, ale také sítě: </a:t>
            </a:r>
            <a:br>
              <a:rPr sz="2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pojení do mezinárodních sítí, virtuální struktury, vzdálený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dný přístup pro odbornou veřejnost, celonárodní dosah (NRRE), mezinárodní propo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205-4D45-4666-A46B-A64D32789B27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Význam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819000"/>
            <a:ext cx="8199360" cy="56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61"/>
              </a:spcBef>
              <a:buSzPct val="1602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dílení a vícenásobné využití dat je podmínkou efektivity výzku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mlouvy a direktivy EU, O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m zdrojů vzniká nový výzkumný materiál </a:t>
            </a:r>
            <a:br>
              <a:rPr sz="2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opojení témat, časové a mezinárodní srovn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ředí pro spoluprá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rodní, mezinárodní, mezioborov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a konkurenceschopnosti výzku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datům z reálných výzkumů pro účely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gionální aspekt: digitaliz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zdálený přís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centralizace, demokratická distribuce podmí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ority rozvoje společnosti v NPV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 infrastruktury a nedostatky v jednotl. prioritách, významný průnik s prioritou Technologie a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urenceschopnost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zení a s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ské zdroje, znalostní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identita a okolní sv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8DC4-F664-4486-AC76-DA316AA1CE4E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SHV v ESFRI Roadmap 2008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806400"/>
            <a:ext cx="9144000" cy="60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89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ESSDA - Council of European Social Science Data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rch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vace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zpracov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zpřístupnění sociálněvěd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at, meziná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kompa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uovan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20 zemí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&gt; 30.000 výzkumníků, &gt; 50.000 databáz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LARIN - Common Language Resources and Tech. Infrast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ziná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koordinace a přístup k jazykovým zdrojům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gridová infrastr., We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technologie, 32 zem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DARIAH - Digital Research Infr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for the Arts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Huma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i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al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eriály pro humanitn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ědy, digitalizace, propojení, sdíl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istribuovaná, 14 zem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SS - European Social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louhodobý sběr dat ku sledování hodnotových změn, přístup k datů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31 zemí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HARE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urvey of Health, Ageing and Retirement in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louhodob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běr dat o zdraví, socio-ekonomickém statusu, sociálních a rodinných sítí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181E-2665-40AF-9843-655F642DEAF2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Náklady na mezinárodní projekty ESFRI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12" name="Picture 116" descr="COSTS in M"/>
          <p:cNvPicPr/>
          <p:nvPr/>
        </p:nvPicPr>
        <p:blipFill>
          <a:blip r:embed="rId1"/>
          <a:srcRect l="7245" t="11083" r="16391" b="36947"/>
          <a:stretch/>
        </p:blipFill>
        <p:spPr>
          <a:xfrm>
            <a:off x="419040" y="1209600"/>
            <a:ext cx="81662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A073-8997-48E1-9EDA-DAFB8C57545C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rojekty pro Českou Roadmap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768240"/>
            <a:ext cx="9144000" cy="608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5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 - s českou účastí, podporované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ESS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iologický datový archiv (SOÚ AV ČR), 700 reg. uživatelů (VŠ, VVI, zahr. - více oborů), data v mezinárodní sí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SOÚ, INGO, FP7 (dříve MŠMT, GA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ssda-ERIC: (operační: 40-70 tis. Eur/rok) + upgrade a zvýšení provozních nákladů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LAR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Ústav formální a aplikované lingvistiky MFF) + FI MU, ÚJ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rukce: 1) úložiště, sítě, připojení, 2) distribuční kanály mezi centry v EU; centrum v ČR dosud není, jsou zde různé zdroj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FP7 + 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HÚ A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vlna šetření ze 2, distribuce dat přes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FP7 + 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18:17Z</dcterms:created>
  <dc:creator>Jindrich Krejci</dc:creator>
  <dc:description/>
  <dc:language>en-US</dc:language>
  <cp:lastModifiedBy>witzanyovan</cp:lastModifiedBy>
  <dcterms:modified xsi:type="dcterms:W3CDTF">2009-09-25T13:56:17Z</dcterms:modified>
  <cp:revision>264</cp:revision>
  <dc:subject/>
  <dc:title>Snímek 1</dc:title>
</cp:coreProperties>
</file>